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2F6D-DF84-4441-ADEC-4DD9AC0A9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74A9-0EDE-4AC2-8CEB-612E8FE1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EB9-654D-4E68-ADFE-2E50B81A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2FF-071D-4976-9E91-FBC58260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BE2-5107-431F-9475-608F7087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0CB-09FE-4925-A051-A3889AF7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230-8089-41B2-9E91-A3FD1E68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6B0-CFF5-497D-B7CB-2AB1CB4F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707-0FDD-4DDD-90AD-AA0E4523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71C-DA55-40C2-A991-0FDEF68B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711-7BE3-4AC2-BFA2-934F7492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592-5489-4FF1-B868-03929351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D5A-4B41-4A59-B0AB-A70EF239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957-A928-4F0C-B539-A8A466B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B25D-AC03-4C91-8E0B-9BC74973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No momento, a permissão para esta apresentação está restrita. Se você não estiver executando o Microsoft Office 2003 ou um aplicativo que ofereça suporte a apresentações com permissão restrita, você poderá ler essa apresentação baixando o Complemento do Rights Management para o Internent Explo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4Z</dcterms:created>
  <dc:creator/>
  <dc:description/>
  <dc:language>en-US</dc:language>
  <cp:lastModifiedBy/>
  <dcterms:modified xsi:type="dcterms:W3CDTF">2006-11-18T02:26:25Z</dcterms:modified>
  <cp:revision>83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